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EF3-F805-4AB4-BC51-95171A8F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CA5-EB4B-4AF8-9C30-A4F4BE60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AE4-2C32-495A-920B-9AEE9379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5C7-3B97-4550-A9A5-00595FAC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0AA8-215C-4B70-BE13-FB391334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0D3-4A17-4989-84D6-E14752D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B7D-DE97-4C50-BAE9-6C212282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894-06C7-4CCE-A0D0-15A4730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CA9-2CFA-4816-965F-B67FCECD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F6D-F341-4248-B285-454F1BA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880-0F19-481A-8EF9-79550DB0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8A5-07DA-4250-B6E8-E8D91A83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F0CE-E966-4857-BF4D-D3472DF3F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i.baidu.com/ryanlimmagic/album/item/d827e1fa64393f0ca8d311bc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lympic.cn/news/beijing/2008-04-26/1450787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legaldaily.com.cn/2007shyf/2008-04/29/content_841926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ews.eastday.com/c/20080428/u1a3558652.html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qianbao.zjol.com.cn/05qianbao/system/2008/04/28/009468008.shtml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sohu.com/20080512/n256804188.shtml" TargetMode="External"/><Relationship Id="rId2" Type="http://schemas.openxmlformats.org/officeDocument/2006/relationships/hyperlink" Target="http://news.sohu.com/20080512/n256804188.shtml" TargetMode="External"/><Relationship Id="rId3" Type="http://schemas.openxmlformats.org/officeDocument/2006/relationships/hyperlink" Target="http://news.sohu.com/20080512/n256804188.shtml" TargetMode="External"/><Relationship Id="rId4" Type="http://schemas.openxmlformats.org/officeDocument/2006/relationships/hyperlink" Target="http://news.sohu.com/20080512/n256803000.shtml" TargetMode="External"/><Relationship Id="rId5" Type="http://schemas.openxmlformats.org/officeDocument/2006/relationships/hyperlink" Target="http://news.sohu.com/20080512/n256803582.shtml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i.baidu.com/maosixiaocui/album/item/138d19953500db58d0135e72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hi.baidu.com/maosixiaocui/album/item/e74b31fe0b35ca225c600887.htm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jiaodong.net/news/system/2008/05/13/010245226.shtml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jxnews.jxcn.cn/525/2008-5-13/30093@393297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news.gxradio.com/news/2008/0513/tpxw/093900.htm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hi.baidu.com/maosixiaocui/album/item/6611ffddd13d09ca8c1029a0.htm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.baidu.com/liuzhen7777777/album/item/549f30dec7f3e74495ee3738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comment2.news.sohu.com/viewcomments.action?id=256802551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.baidu.com/ouyanxi/album/item/e0a4dfc8cc0c1f187e3e6f6c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hi.baidu.com/ouyanxi/album/item/64b1a7ec519ab52863d09f6c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.baidu.com/ouyanxi/album/item/88714f34f1afe641241f1447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.baidu.com/liuzhen7777777/album/item/5f0cbe1e66a865e41ad576f7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加  油  中  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64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勇敢面对磨难  挺起中国人的脊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333600" cy="632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4762800" cy="624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月：当圣火遭遇屈辱 我们义无反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奥运圣火在境外经历了艰辛，无数中华儿女挺身向前，打标语、舞国旗、唱国歌、喊口号……用各自的方式表达着爱国的热情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657600"/>
            <a:ext cx="739152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正在腾飞，历史上中国曾是文明大国，但近代的衰落让他忘记了如何做大国。大国就应该有大国的气度，要坦然地面对各种批评和赞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657600"/>
            <a:ext cx="7848720" cy="29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月：当病毒吞噬生命 我们用爱弥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毒并不罕见，但是阜阳这次却非常特殊。从第一例患儿死亡到疫情发布，一共经历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。目前，感染肠道病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7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孩子遍及中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省份，人数近两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起事件中，我们要铭记一位白衣天使，她的名字叫刘晓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前，她举报和反映了“大头娃娃”事件。今天，她最早发现和上报了手足口病，当地百姓因此将她喻为阜阳的“钟南山”。她就是阜阳市人民医院质控办主任、儿科主任医师刘晓琳，一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的癌症患者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细细读来，她似乎并无什么惊天壮举，她自己似乎也没觉得自己有什么了不起。但是，在这平常、平淡、平凡的背后，却是那原初的中流砥柱般的责任、良知和爱心，撑起了她事迹的全部，又如此绵密地沁入人们的内心，引来那么多感动的热泪。在这个意义上，刘晓琳是一面普通的镜子，我们每一个人，特别是以救死扶伤为己任的医护人员们，都可以去照一照，看看自己缺了点什么。我们照出的或许是坦然，或许是羞愧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为什么是她发现了手足口病？这对于拥有职业的敏感与责任心的人来说，似乎是理所当然的事儿。从今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上旬开始，阜阳市几家医院陆续收治了发热伴随口腔、手、足、臀部皮疹为主的疾病患者，少数伴有脑、心、肺严重损害。而刘晓琳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的一次平常的交接班中，“感觉很不对劲”，大脑中即闪过“手足口病”之念……和她相比，很多时候，我们就是缺少这么一点点责任心，使自己的职业敏感度变得迟钝了，致使责任事故发生了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685800"/>
            <a:ext cx="80773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卫生部部长陈竺高度赞扬刘晓琳：“一个好的临床医生，面对的应该不仅仅是个体病人的症状，还要想到症状后面的病因，要对临床情况的特殊性产生警觉，意识到其中的不同寻常之处，并且有报告意识。刘主任对这次疫情的控制是有贡献的！”其实，平心而论，对临床医生的这个要求并不高，应当是最基本的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责任的背后是做人做事的良知，良知缺失了就谈不上有什么责任心了。刘晓琳当年在新岗位上，把药品收支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品收入占业务收入的比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降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左右。想想看，这要断了多少人的财路？人们说这很了不起，她说这是“很正常的工作”。她想的是“阜阳经济落后，老百姓比较穷，一旦看病贵，就会使一些人得不到及时有效治疗。”这就是做医生的最基本的良知，对照有些医生的“大处方”，对照许多医院价格翻了几十倍的药品，刘晓琳或许不会因此而高大，但后者就变得渺小了，丢失良知了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然而说到底，这责任，这良知，都源于爱心。人有父母儿女，爱心岂能无？这里说的是，我们能不能推己及人，将心比心，对处在危境中的他人生出那种原属于生命的本能之爱。当初，刘晓琳向媒体反映了劣质奶粉导致“大头娃娃”事件，面对由此给自己带来的压力和风险，刘晓琳如是说，“一个个花朵般的孩子痛苦地死去，从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年的我眼睁睁地看着却不能救他们，内心就如刀绞，好几次我都哭了。还有什么风险和压力能与孩子的生命相提并论呢？”正是这种质朴的爱心，让她无所畏惧，让她担起责任。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以人为镜可以明得失。刘晓琳无愧于白衣天使的称号，我们更希望所有的医护人员都配得上这个称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日：当列车冲出轨道 我们竭诚互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生命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名伤者、两列相撞的火车、被迫中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小时线路？？这一切仅仅是因为一条漏发的调度命令？庞大的铁路系统为何如此脆弱？在震惊和悲痛之后，更多的关注投向了责任的追究。然而，从某种意义上来说，人们最希望看到的并不是责任人得到严惩，而是类似的悲剧不要再发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143000" y="38160"/>
            <a:ext cx="10287000" cy="681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   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谁也不曾料到，这是如此艰难的一年。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008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，我们热切期待的阳光和欢笑，却不料被一路风暴阻隔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    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肆虐的雪灾，冻裂了中国大地；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的拉萨暴力事件，烧伤了美丽的圣地；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的奥运火炬传递受阻，刺伤了中国人向世界张开的双臂；善变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月，胶济铁路火车相撞，撞碎了多少旅人的梦；突然传遍全国的儿童手足口病，令全国父母心头纠结；震动传及东南亚的四川大地震，撼及整个中国的灵魂……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    然而，中国在低头抱怨吗？没有，中国挺起了他的脊梁！全民一心，共同抗灾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日：当震撼撕裂大地 我们开山辟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四川汶川县发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7.8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级强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重庆、湖南、湖北、山西、陕西、河北、北京等地有震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地震发生后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胡锦涛总书记立即作出重要指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要求尽快抢救伤员，保证灾区人民生命安全。如此快速反应，让人们看到了党和政府全力以赴抗震救灾的决心，看到党和政府对人民群众的深厚感情。这种决心和感情，必将增强灾区人民万众一心、共渡难关的信心，动员起更多力量支援灾区人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860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369360" cy="6539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45000" y="5813280"/>
            <a:ext cx="21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受灾群众在废墟中寻找可用之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2680" y="611820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倒塌的聚源中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85680" y="44280"/>
            <a:ext cx="4286160" cy="6813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21040" y="6248520"/>
            <a:ext cx="40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位母亲在遇难的儿子的尸体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4840" y="6270480"/>
            <a:ext cx="114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遇难的学生尸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精品推荐"/>
          <p:cNvPicPr/>
          <p:nvPr/>
        </p:nvPicPr>
        <p:blipFill>
          <a:blip r:embed="rId1"/>
          <a:stretch/>
        </p:blipFill>
        <p:spPr>
          <a:xfrm>
            <a:off x="155520" y="46080"/>
            <a:ext cx="9369360" cy="6421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28800" y="5737320"/>
            <a:ext cx="40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位母亲冲向已经死去的儿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精品推荐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15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14560" y="5485680"/>
            <a:ext cx="63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等待孩子消息的家长看到一名遇难学生的遗体被抬出后，奋力向前冲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47520" y="36360"/>
            <a:ext cx="4394160" cy="682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8616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70880" y="6247800"/>
            <a:ext cx="4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位居民在为遇难的亲人送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248160"/>
            <a:ext cx="396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位母亲在呼唤尽快救出埋在废墟中的儿子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精品推荐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022640" y="6171480"/>
            <a:ext cx="29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绵竹市东汽中学遇难学生陈竹的父亲在安慰悲痛不已的妻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当风雪阻断归路 我们彼此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取暖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们没有气壮山河的言语，也没有轰轰烈烈的事迹，却用纯朴而又不凡的行动，融冰化雪，让我们从心底生发太多感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精品推荐"/>
          <p:cNvPicPr/>
          <p:nvPr/>
        </p:nvPicPr>
        <p:blipFill>
          <a:blip r:embed="rId1"/>
          <a:stretch/>
        </p:blipFill>
        <p:spPr>
          <a:xfrm>
            <a:off x="0" y="331920"/>
            <a:ext cx="9522000" cy="6526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69360" y="6095160"/>
            <a:ext cx="69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在北川县中学，一位被困在废墟中的孩子经过紧急救助后等待救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精品推荐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431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17440" y="5942880"/>
            <a:ext cx="1312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日，四川北川，救护人员正在给一名刚从地震废墟中救出的儿童喂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精品推荐"/>
          <p:cNvPicPr/>
          <p:nvPr/>
        </p:nvPicPr>
        <p:blipFill>
          <a:blip r:embed="rId1"/>
          <a:stretch/>
        </p:blipFill>
        <p:spPr>
          <a:xfrm>
            <a:off x="0" y="0"/>
            <a:ext cx="9906120" cy="6788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21640" y="6095160"/>
            <a:ext cx="462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四川绵阳，夜晚在户外露宿的学生正复习功课，准备即将到来的中招考试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4120" y="6270480"/>
            <a:ext cx="72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心有余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42680" y="619452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地震中出生的婴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21320" y="6118200"/>
            <a:ext cx="72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灾后救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50840" y="6118200"/>
            <a:ext cx="168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温家宝总理亲临救灾现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0080" y="36360"/>
            <a:ext cx="9043920" cy="682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个特殊的时刻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在竞技场之外，中国正在疾奔，由国家总理指挥的一场物资和人力的接力赛，争分夺秒地赶往受灾地区，抢救不幸被困受伤的同胞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与体育竞赛相比，这场与时间的赛跑更加惊心动魄。每个中国人都以行动和情感参与其中，关切的慰问也从全球各地飞来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　　最令人动容的，是中国人在灾难面展现出的勇气。一如现代奥林匹克运动所诠释的那样，是勇气，和对人类勇敢向上的天性的信仰，支撑着“更快、更高、更强”的体育精神，同样是勇气，支撑着灾区人民抗击灾难的信心，更是勇气，令我们在这个非比寻常奥运年无比团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看看，此前五千年，重负一再降临他的肩头：自然灾害、战火、固步自封、外敌侵侮、沉睡迟滞、歧路徘徊…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所有这些，我们的先人和父辈不曾过多抱怨，而是挺身长足迈入新时代，如今我们又何必沉吟：一个团结、和平和现代化的中国，十数亿心连五洲、身达四海的中国人，我们要坚信必能越过沟壑，越是巨大的挑战我们越要坚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中国，加油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校长寄语：虽然我们无法亲临灾区救援，但是我们可以用捐款的形式献出我们的爱心。让我们自觉地把心中的这份爱国情化作勤奋工作动力，做好本职工作就是对灾区的最大支持，就是最大的爱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月：当主权面对挑战 我们亮出利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临藏独分子的挑衅和某些西方媒体的攻击，中国政府做出了有力的还击，在华中国人和海外华人也相继以自发护卫圣火等爱国行为，表现了中国人团结一心的决意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，中国政府表示愿意与达赖集团重启谈判，并希望达赖方面以实际行动停止分裂祖国的活动，停止策划煽动暴力活动，停止干扰破坏北京奥运会的活动，为下一步商谈创造条件。维护祖国安定统一，任重而道远，但中国人维护祖国统一的决心，不会有丝毫改变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视频:五名藏独分子干扰巴黎火炬传递被警方拘捕"/>
          <p:cNvPicPr/>
          <p:nvPr/>
        </p:nvPicPr>
        <p:blipFill>
          <a:blip r:embed="rId1"/>
          <a:stretch/>
        </p:blipFill>
        <p:spPr>
          <a:xfrm>
            <a:off x="685800" y="0"/>
            <a:ext cx="7977240" cy="705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7:59:52Z</dcterms:modified>
  <cp:revision>3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